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69EDB-B16A-407C-A901-C399EF9B17D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36267-8E05-405E-BE5D-9A1D39CC4BF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EDAB3-88CD-426B-9687-E390B34D2C1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F1230-C354-4DD6-8FA5-A8EA2C14D52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F1237-6754-4F1F-85E7-4BD95956CC4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4B961-EA8E-41F6-B0F2-FBC26836B2E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12ED9-8904-4568-A720-209F09AA51D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C21F2-0F48-4DD8-BF90-5AAFFA7EE55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79115-986B-4933-B9AC-D79A01FBC1E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A28CA-7ABE-48F0-8913-79A65ADD59A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DC3C1-A943-4F58-BDDF-B6AC9784876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BAB8C-D93A-426A-A90F-AAF2CC3475A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20086-C6C3-4C4E-85EE-F541A08E6D6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6A8EA-14E3-4946-89BB-1133B10A0EB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38035-FB36-416B-AA17-87F3081D17C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E1E8F-74F9-4FA1-B059-8A492337645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E68E0-04B3-4204-9689-DE72F9999B3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8203A-1187-4715-A0B3-83B05069DAF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8F0EC-5B96-4B52-ADEB-6E0D57967C9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C16FB-2FC3-4D1E-B2A0-F27BDF11E6D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12469-AF93-4439-B937-DE5775873E9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1AAD5-A36B-407B-B5B0-E4D4E2DC194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A126A-0D35-411A-AB37-BFDE30BB5C7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ED044-8DC9-4399-9C28-BEE5F17919D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2F82-AF33-4DE1-BB4C-8234E18E8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8554-1355-4561-ADD9-06C8A1D14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6D86-EC4C-4D6A-BA37-0D282510A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8A71-A39D-42F8-B851-F2C140872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D101-B57B-48C5-B118-8D318DB00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C7A7-44BE-4E9B-853A-A67D3103A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7366-454A-4BE3-A441-BB0305B49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D84B-91D8-402E-8587-FF94167B6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2D2A-2085-430F-8601-6DD8B929C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BF6B-4EED-403C-BFC9-9719BD2EF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9E35-3883-4191-A6F1-31727C32D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F95C-59CC-46EE-9932-919EA88E3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02DF3E-CEC4-437B-AABC-07C153C036CA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La réforme budgétaire</a:t>
            </a:r>
            <a:br>
              <a:rPr sz="38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2. Un échange entre liberté et responsabilité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Liberté accr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acte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l’adminis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sation des crédits par program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Fongibilité des crédits par nature, mais avec un plafond de masse salari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Liberté de redéploiement des effectifs dans un plafond d’emplois exprimé en équivalent temps ple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lus gran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esponsabilit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ges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program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38292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’engager sur des objectifs et rendre compte des résulta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endre compte de l’utilisation des crédits par nature et par finalité de la dépen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Plus d’information dans l’exécution du budget en engagements et en pai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C45C-D430-4651-83C8-5A1F35DAD02F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314360" y="836640"/>
            <a:ext cx="7245360" cy="5956200"/>
            <a:chOff x="1314360" y="836640"/>
            <a:chExt cx="7245360" cy="59562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1314360" y="836640"/>
              <a:ext cx="7245360" cy="59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89160" y="4480920"/>
              <a:ext cx="1505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a40079"/>
                  </a:solidFill>
                  <a:latin typeface="Arial"/>
                </a:rPr>
                <a:t>FONGIBILITÉ</a:t>
              </a:r>
              <a:r>
                <a:rPr b="0" lang="pl-PL" sz="1600" spc="-1" strike="noStrike">
                  <a:solidFill>
                    <a:srgbClr val="a4007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238720" y="2963880"/>
              <a:ext cx="1960560" cy="1432080"/>
              <a:chOff x="5238720" y="2963880"/>
              <a:chExt cx="1960560" cy="1432080"/>
            </a:xfrm>
          </p:grpSpPr>
          <p:sp>
            <p:nvSpPr>
              <p:cNvPr id="182" name=""/>
              <p:cNvSpPr/>
              <p:nvPr/>
            </p:nvSpPr>
            <p:spPr>
              <a:xfrm>
                <a:off x="5425920" y="3681360"/>
                <a:ext cx="1773360" cy="71460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4600"/>
                  <a:gd name="textAreaBottom" fmla="*/ 618840 h 71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238720" y="2963880"/>
                <a:ext cx="1773360" cy="71604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6040"/>
                  <a:gd name="textAreaBottom" fmla="*/ 62028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106880" y="5616720"/>
              <a:ext cx="1357200" cy="357120"/>
            </a:xfrm>
            <a:prstGeom prst="rightArrow">
              <a:avLst>
                <a:gd name="adj1" fmla="val 50000"/>
                <a:gd name="adj2" fmla="val 95010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029840" y="4971960"/>
              <a:ext cx="1357560" cy="357120"/>
            </a:xfrm>
            <a:prstGeom prst="rightArrow">
              <a:avLst>
                <a:gd name="adj1" fmla="val 50000"/>
                <a:gd name="adj2" fmla="val 95035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655800" y="3179880"/>
              <a:ext cx="903600" cy="786960"/>
              <a:chOff x="3655800" y="3179880"/>
              <a:chExt cx="903600" cy="786960"/>
            </a:xfrm>
          </p:grpSpPr>
          <p:sp>
            <p:nvSpPr>
              <p:cNvPr id="187" name=""/>
              <p:cNvSpPr/>
              <p:nvPr/>
            </p:nvSpPr>
            <p:spPr>
              <a:xfrm>
                <a:off x="3741840" y="3574080"/>
                <a:ext cx="817560" cy="392760"/>
              </a:xfrm>
              <a:custGeom>
                <a:avLst/>
                <a:gdLst>
                  <a:gd name="textAreaLeft" fmla="*/ 142920 w 817560"/>
                  <a:gd name="textAreaRight" fmla="*/ 592920 w 817560"/>
                  <a:gd name="textAreaTop" fmla="*/ 52560 h 392760"/>
                  <a:gd name="textAreaBottom" fmla="*/ 340200 h 39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655440" y="3179880"/>
                <a:ext cx="817560" cy="394200"/>
              </a:xfrm>
              <a:custGeom>
                <a:avLst/>
                <a:gdLst>
                  <a:gd name="textAreaLeft" fmla="*/ 142560 w 817560"/>
                  <a:gd name="textAreaRight" fmla="*/ 592560 w 817560"/>
                  <a:gd name="textAreaTop" fmla="*/ 52560 h 394200"/>
                  <a:gd name="textAreaBottom" fmla="*/ 34164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560840" y="4900680"/>
              <a:ext cx="52560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559040" y="4900680"/>
              <a:ext cx="45396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fongibilité au sein du program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EC56-9F08-412F-9918-A80AE1FE9E94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Un budget orienté vers les résultats : la recherche de la PERFORM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éterminés dans le cadre des moyens alloués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≠ budgétisation par objectif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Des objectifs d’amélioration de l’efficacité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’engager sur l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projet annuel de performance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endre compte d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rapport annuel de performance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Même présentation, même structure que le projet annuel de performance afin de faciliter la comparaison prévisions/réalis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Vote en première lecture sur la loi de règlement n-1 avant l’examen du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BA58-EDC7-4933-AEDC-1B51FC0AA8BF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sens de la 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uide méthodologiqu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tagé entre le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ouvernement, le Parlement, la Cour des Comptes et le 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sélection d’objectifs et d’indicateurs de résultats représentative des priorités du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égi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expliquer la cohé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j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répondre aux attentes du citoyen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l’usager et du contribuable : un choix politiqu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mesurer la réalisation des objectifs retenu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et indicateur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clairent les politiques et sont présentés au Parlement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dont il est rendu compte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tilisés et déclinés dans la gestion interne et donna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sens à l’activité de chaque ag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59851-177A-4050-885D-1431142C29E8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imensions de la perform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ois dimensions de la performance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socio-économ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itoyen) : les effets attendu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qualité du service rendu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e l’usager) : la qualité exigé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de la ges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ontribuable) : l’optimisation des moye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mesure des résultats pour chaque objectif en fixant des cibles (niveaux de performance obtenus et attendus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non d’activité ou de moye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mputa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ux respons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 contrôle permanent exercé par un organisme public indépendant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mité interministériel d’audit des programmes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346C4-F0AF-46BB-967E-239F08EF4B7B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par la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 objectifs par programme, 2 indicateurs par objecti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00 objectifs – 1.000 indicateurs en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97840" y="2492280"/>
            <a:ext cx="7696800" cy="3346560"/>
            <a:chOff x="897840" y="2492280"/>
            <a:chExt cx="7696800" cy="3346560"/>
          </a:xfrm>
        </p:grpSpPr>
        <p:sp>
          <p:nvSpPr>
            <p:cNvPr id="202" name=""/>
            <p:cNvSpPr/>
            <p:nvPr/>
          </p:nvSpPr>
          <p:spPr>
            <a:xfrm>
              <a:off x="900000" y="507708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900000" y="4009320"/>
              <a:ext cx="7694640" cy="1080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0000" y="583884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00000" y="3171240"/>
              <a:ext cx="7694640" cy="1044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8560" y="2644560"/>
              <a:ext cx="15591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oint de v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98400" y="2644560"/>
              <a:ext cx="17312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Axe d’analy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27560" y="2492280"/>
              <a:ext cx="13334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obje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9720" y="2492280"/>
              <a:ext cx="1447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indicate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97840" y="3258720"/>
              <a:ext cx="9172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itoy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9640" y="4020480"/>
              <a:ext cx="8791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s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8920" y="5077080"/>
              <a:ext cx="1435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ontribu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99480" y="3228480"/>
              <a:ext cx="15926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cio-économ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8400" y="4042800"/>
              <a:ext cx="1536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qualité du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nd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99840" y="5110200"/>
              <a:ext cx="1158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 la ges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27920" y="3206520"/>
              <a:ext cx="17722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roître l’inser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ofessionnel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eunes diplôm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09360" y="3173040"/>
              <a:ext cx="222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% de diplômés aya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n emploi 6 mois aprè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l’obtention de leur diplô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7920" y="4042800"/>
              <a:ext cx="1734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élérer 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judici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28280" y="5110200"/>
              <a:ext cx="16444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duire le coût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 l’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9640" y="4010760"/>
              <a:ext cx="204228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urée moyenne d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rendues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ncienneté moyenn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ugements en c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07920" y="5077080"/>
              <a:ext cx="20498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oût par redevable d’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094E-7C16-41CB-A810-44FE1D658D5D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4. La transparence des inform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penses de personne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ût complet intégrant les cotisations patronales + l’ensembl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mploi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émunérées par l’Etat exprimés en « équivalents temps plein travaillés »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ustification au premier euro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crédits (éléments physico-financier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renforcement du principe d’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versa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prés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ér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emplois et crédi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généralis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torisations d’Engagement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à toutes l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comptabilité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nalyse du coût des action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répartissant les fonctions support et les services polyvalent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AE42-AF9C-4C6C-853F-73585490095B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5. La nouvelle comptabilité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es outils de mesure de la situation financière de l’Et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927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a comptabilité élevée au niveau d’une loi organiqu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A coté de la comptabilité budgétaire en caisse, introduction de la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comptabilité d’exercice, en droits constatés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pour assurer la transparence de la situation financière de l’Etat (bilan +  hors-bilan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s comptes réguliers, sincères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et donnant une imag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fidè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de son patrimoine et de sa situation financiè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exigence d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confiée aux comptables en lien avec les ordonnateu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EC2E-6E14-4FAF-81C2-779F891671E2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e nouvelle comptabilité à trois dimen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ondée sur la comptabilisation des recettes et des dépenses budgétaires (encaissements/pai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ériode complémentaire comptable de 20 jou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double suivi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d’exercic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fondée sur la constatation des droits et obligations, proche des règles de comptabilité des entreprises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opérations sont prises en compte au titre de l’exercice auquel elles se rattachent, indépendamment de leur date de paiement ou d’enca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analyse des coûts des ac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au service du gestionnaire (cf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0600" y="173160"/>
            <a:ext cx="6639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5152-FCBA-4AC4-88B2-7BD173331C1D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mise en œuvre de la nouvelle compt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finition du cadre conceptuel : les normes compt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3 normes établis par 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mité des norm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sur les états financiers, les charges, les immobilisations, les dettes, etc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21 mai 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pprobation par arrêté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clinaison des norm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lan de compt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par nature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ueil d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ctions comptab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construction du bila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ensement et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alorisation du parc immobilie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coût du marché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utres immobilisation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rporelles et les stock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 annuel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 la Cour des Comptes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comptes 2006 et 2007 certifiés par la Cour des Comp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vec 13 puis 12 réserves (dont 2 générales sur les systèmes d’information et le contrôle intern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1F1D-95BC-458B-9F1D-E1FD8B4EF8FE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loi organique du 1</a:t>
            </a:r>
            <a:r>
              <a:rPr b="1" lang="pl-PL" sz="26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août 2001 relative aux lois de finances ( LOLF) en Fr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nouvelle constitution financière pour l’Etat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initiative parlementai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accord politique trans-partisa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consensus avec le gouvern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E7E9-BFE7-4B77-9834-10A4EB3B2839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6. L’accroissement du rôle du Parlem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lus lisib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et le vote par grandes politiques publiques (mission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des crédits au premier euro, des emplois par minist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e information enrichie pour contrôler la dépense (PAP – annexes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déba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tentiellement plus rich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élargissement du droit d’amendement : redéploiements entre programmes d’une même mis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exécu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un accès renforcé à l’information pour les commissions des finances (actes réglementair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pouvoirs d’investigations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udi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s (recours à la Cour des Compt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’importance nouvelle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oi de règl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intègre les comptes et les rapports annuels de performa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B719-544C-4522-BE78-EFB2D5060595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Jusqu'e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5054400"/>
            <a:ext cx="335268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94% des crédits sont reconduit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quasi-automatiquement d'une an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ur l'autre (services votés), sans remise en cau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'essentiel des débats porte sur seulement 6% du budget géné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5057280"/>
            <a:ext cx="327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00% des crédits sont discuté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u Parlement par mi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epuis le budge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sures nouvelles par ministèr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7 votes en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34648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vices votés : 1 seul 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7 missions, 47 v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 débat budgétaire enrichi et modernis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9479-B1E1-4C62-9193-A66EE73AE1A1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7. Un nouveau système de respons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pilotage par le responsable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près arbitrage mené par le directeur des affaires financières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dispose des crédits et les répartit pour les besoins de la gestion interne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s’engage sur la performanc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jet annuel de performance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rend compt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port annuel</a:t>
            </a:r>
            <a:br>
              <a:rPr sz="2000"/>
            </a:b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performanc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responsables de programme qui peuvent piloter plusieurs direc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«managériale», une rémunération au méri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E92C-E3EB-4100-B4D2-E480FEE7A3DF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Une déconcentration de la gestion budgé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programmes nationaux se déclinent en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budget opérationnel de programme (BOP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sur un périmètre ou un territoir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plan d’action avec des objectifs et indicateurs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performance adaptés aux enjeux opérationnels des services déconcentré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prévisionnel, détaillé par finalité et nature de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schéma d’organisation financiè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gestion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onsable de budget opérationnel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dispose d’un budget opérationnel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s’engage et rend compte dans le cadre du dialogue de gestion au responsable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2DDA-6DD7-41A3-AFAC-B1F56C3DAF3F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9. L’allégement des contrôles du ministère des finan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budgétaire de souten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bandon du contrôle de régularité confié aux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visa amont sur la programmation budgétaire initi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de gestion : une modularité des contrôles avec un contrôle a priori en fonction des enjeux et des ris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mptes-rendus de gestion trimestriels par les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comptable du paiement de la dépense allég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hiérarchisé ou partenari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is 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rôle interne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 pour garantir la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90C6-05AF-4BCB-8254-BE6F31867803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développement des contrôles exercés par les ministères gestionnai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de gestio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«améliorer le rapport entre les moyens engagés et l’activité ou bien avec les résultats obtenus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contrôle de gestion ministériel et par programme, et au niveau loc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renforc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onséquence de la réorganisation des ministères et de l’allégement des contrôles financi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se en place d’un contrôle interne comptab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e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l’audit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ctivité externe menée par des équipes dédiées (inspection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5790B-A9DC-4607-AB99-002040A38694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0. La mise en place de nouveaux systèmes d’information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système provisoire dès 2006 mais peu satisfaisa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nouveau progiciel de gestion intégré (ERP) en construction (CHORUS) couvrant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dministrations centrales et déconcentré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pplications de dépenses, de recettes et toutes les comptabil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es infocentres de données permettant des restitu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levier de modernisation et d’amélioration de la productivité, précédé d’une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éingénierie des processus financier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» (23.000 licences au lieu de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éploiemen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rogressif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révu entre 2009 et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accompagnement indispensable dans le déploi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0B2D-FF09-4661-A50A-3B0C76F109BD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n conclusion: le temps long de la réforme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principales étapes de la réforme budgétaire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9440" y="3141720"/>
            <a:ext cx="13129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e par 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éation de la  Direction de la réforme budgé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3141720"/>
            <a:ext cx="1800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t de loi de finances en mode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fs de performance / indicateurs d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ort Lambert/Migaud sur la mise en œuvre de la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i de finances en mode LOLF &amp; débat parlemen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3135240"/>
            <a:ext cx="1692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apports annuels de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tification des comptes par la Cour des Comp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ire les fo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ise en œuv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uvelle agence de gestion des systèmes d’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6031-3BAD-4724-AE7D-52A07DAB73C5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de la réfo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pilotage assuré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ère des financ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création d’un structure dédiée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la direction de la réforme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direction de projet  créée pour une durée limitée: 50 cadres de haut niveau aidé par des consultants pour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éfinir les nouvelles règles budgétaires et comptables (en associant les directions du budget et de la comptabilité publiqu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ssurer le pilotage interministériel de la réforme (comité des directeurs financiers des ministères, forum des responsables de  programme, animation de comités locaux de la réforme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feuille de rout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un calendrier, des jal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consultation permanente des commissions de finances du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arle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072F-EB62-4453-AF45-D953254C8FBD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enseignements de la mise en œuv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implication au plus haut niveau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soutien politiqu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formation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nagers public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à la culture de responsabilité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form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indispensable dans les ministères pour tous les agents quelque soit leur niveau  (formation de formateur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e recours a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xpérimenta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our s’approprier la réform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ommunic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externe et et intern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mise sous tension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alendri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EF89-9925-4BA6-837C-C04C028B6885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LOLF doit répondre aux attentes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él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isibilité budgétaire accrue et transparence dans l’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Meilleure affectation des ressources aux politiques publiques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fonc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lus grande liberté et responsabilité accrue des acteurs de l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Des objectifs cl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itoyens : meilleure compréhension de l’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sagers : des services publics mieux adaptés aux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ontribuables : meilleure 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des citoy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B6E3-C2C9-4864-BF6D-4BEF5FFA408C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es premiers résultats encouragea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France 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ecté les dates limi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fixée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0" lang="pl-PL" sz="1800" spc="-1" strike="noStrike" baseline="30000">
                <a:solidFill>
                  <a:srgbClr val="4d4d4d"/>
                </a:solidFill>
                <a:latin typeface="Arial"/>
              </a:rPr>
              <a:t>èr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loi de finances voté en mode LOLF en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1ers comptes 2006 certifiés par la Cour des Compt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naissance d’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uvelle forme d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ncourageant les ministères à redéfinir leurs objectif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léguant les responsabilité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le nouveau système encourage l’amélioration de la qualité du service public et une meilleure utilisation des ressources publiqu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cloisonn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services entre les opérationnels, les financiers et les ressources humain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enrichissement réel d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e de ges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mais une déclinaison de la performance à amélior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FF90-EC46-4CE5-9175-7E8D452F3ACF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algré des débuts diffici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phase d’apprentissag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nouveaux standards, nouveaux outils, nouveau calendrier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arges de manœuvre encore fai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des faibles redéploiements, des fléchages de crédits par les administrations centrales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rge de travai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lus complexe et plus grande (plus d'informations, de procédures d'engagement de dépense, etc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soucis concernant la disponibilité et l'exactitude de certain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util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notamment les systèmes intégrés de gestion. Un débat non tranché sur le partage des gains de productivité ( peu de contrats pluriannuel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problème de l’application de la réforme en  période de déficit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AC08-4126-4C1F-9956-40C6E6197C24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éfis de plus long te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polit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la réalité du rôle du Parl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 administratif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cohérence entre les périmètres des programmes importants (100) et les compétences des administrations centrales (200 direction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dministrations centrales et les services déconcentr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cteurs : ministère des finances/ ministères gestionnaires ; responsables de programmes opérationnels /directions support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citations pour réaliser les résultats et améliorer la gestion des ressources humaines (carrière, salaires, bonifications, etc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culturel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: le passage d’une culture de moyens et de régularité à une culture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techn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améliorer les systèmes d'information pour la qualité et la fiabilité des donné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C397-25E1-428A-9FF2-38AC8E23F12B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lusieurs réformes dans un texte solenn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e nouvell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nomenclature budgétair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a discussion, le vote et l’exécution des lois de finances pour présenter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Un budget orienté vers les résultat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vec des objectifs et des indicateurs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our une permettre une nouvelle gestion publique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Des comptes plus transparents et plus précis basés sur la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comptabilité en droits constatés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et l'analyse des coûts, donnant aux gestionnaires de nouveaux outils pour gérer leur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 nouveau système de gouvernance budgétaire et de procédure budgétaire: une collégialité gouvernementale et un rôle plus actif du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emen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’autorisation et le contrôle d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5FBD-0C38-4016-9ECF-84AA7C7E099D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architecture budgétai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208320"/>
            <a:chOff x="3249720" y="2209320"/>
            <a:chExt cx="5892840" cy="32083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920" y="3431160"/>
              <a:ext cx="926280" cy="684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872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480" cy="200268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520" y="2431800"/>
              <a:ext cx="924480" cy="198792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29920"/>
              <a:ext cx="9000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29920"/>
              <a:ext cx="87948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29920"/>
              <a:ext cx="7905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28480"/>
              <a:ext cx="8334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83520" y="4320360"/>
              <a:ext cx="691200" cy="72756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3999240" y="4637880"/>
              <a:ext cx="692640" cy="94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72160" y="3958200"/>
              <a:ext cx="692640" cy="1453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57800" y="4372560"/>
              <a:ext cx="692640" cy="62460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1760" y="2400480"/>
            <a:ext cx="22280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iscussion et vote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 Par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1560" y="3733920"/>
            <a:ext cx="14918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t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E23A-01F6-4171-A6C2-5066C595BD14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: l’expression des choix polit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32 mission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’identification de politiques publiques cohérentes : «Une mission comprend un ensemble de programmes concourant à une politique publique définie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est l'unité de vote du Parl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le regroupe un ensemble de programmes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Parlement peut réallouer les crédits entre programmes, au sein d'une miss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peut être ministérielle ou interministériel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8 missions interministérielles,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xemple : la mission «Recherche» qui concerne 6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891F-7B22-4A74-ADCC-CAC360BC924B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139480"/>
              <a:ext cx="15224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nseig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upérieur 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ormation supérieure et recherche universit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e étudi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s scientifiques et technologiques pluridiscipli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a gestion des milieux et des res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spat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industri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668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nom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Industrie et</a:t>
              </a:r>
              <a:br>
                <a:rPr sz="1400"/>
              </a:b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mpl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889080"/>
              <a:ext cx="6105600" cy="99684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risques et des poll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'éner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transports, de l'équipement et de l'habi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log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uale (civile et militai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 agric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culturelle et culture scientif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« Recherche et enseignement supérieur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12 programmes / 6 ministèr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C7EA-DD4C-498D-AF01-6626373CFF87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programme : cadre d’autorisation et de gestion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130 programme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programme regroupe les crédits (quelle qu’en soit la nature) destinés à mettre en œuvre une action ou un ensemble cohérent d'actions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relève d'un seul minist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ité de spécialité des crédits et de définition des objectifs et indicateurs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as de budgétisation analytiqu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nécessite un pilotage qui fait apparaître de nouvelles fonctions managériale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372A-5657-4213-AFC1-029E62362B34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tion pénitent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110200"/>
            <a:ext cx="3657600" cy="9986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Conduite et pilotag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la politique de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et organismes rattach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Justice judic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tection judiciaire </a:t>
            </a:r>
            <a:br>
              <a:rPr sz="2000"/>
            </a:b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e la jeun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ccès au droit et à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globalisation des crédits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’exemple de la mission «justice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vant : 30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160 articles de pré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II - Moyens de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- rémunérations d'activ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retraite - pensions et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activité et en retraite - charg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Matériel et fonctionnement des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Subventions de foncti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Dépenses dive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V - Interventions publ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Interventions politiques et administr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Actions sociale - assistance et solidar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 - Investissements exécuté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administratifs et d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I - Subventions d'investissement accordée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culturel et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près : 5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3C67-E76D-4006-A559-9280F5E08120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2:50:16Z</dcterms:modified>
  <cp:revision>168</cp:revision>
  <dc:subject/>
  <dc:title>La gestion de la réforme budgétaire </dc:title>
</cp:coreProperties>
</file>