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dt" idx="10"/>
          </p:nvPr>
        </p:nvSpPr>
        <p:spPr>
          <a:xfrm>
            <a:off x="4020840" y="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402084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F82532-9369-46C4-8755-D7725868C341}" type="slidenum">
              <a: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C2A267-F9F4-4312-8D8C-463874810833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841BD5-ECF0-4BF9-B5D0-C07C8D642014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1A09CE-185C-4B0E-BAA6-4CDE82058B54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1EBCDB-0073-4FA6-92FF-B05544FB14C8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D22C12-B80A-478C-AFA6-52512E7BDB11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28481E4-13D5-4AC5-8411-95BE5B252534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FC49BB-2220-4809-BA97-97DB8908FFF4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05775FD-507F-4C0E-B67F-7037997B8193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F39BC8-B2C1-4A32-80B6-793C602F6E6B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FA4B457-ACF5-40FB-9E2C-7868DBE4EBD1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E5E1D8-DA1A-4BF9-9C8D-DF7DC8ACF4DD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8DAB06-6FF6-48F1-870F-BA2E4F6A1522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8848-7521-486E-BE24-6316BD2A1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CDDD-2FA7-4C0F-AB12-380670C6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C7A1-ADAF-4166-94DE-90FC9A2B3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059C-CFB7-46AF-B312-08C6A646E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12B2-C16C-48F9-81BE-DF2A83A97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0A22-EFD2-4965-A453-8E076C9A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72A7-46E0-4EE6-9E68-B0EB3E67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5548-2747-4F9F-80C3-9B54F7E5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098C-F298-48B5-A08A-E1FE2FAE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69800" y="301680"/>
            <a:ext cx="7311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A993-364F-4D00-B09E-23C2D500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EF68-D382-4257-B2DA-C635833F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0AD9-7834-4F4A-948E-7FCAC00E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DF34-656C-497F-8281-CC5CBDBB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CE05-1854-49E3-879A-D1F5468A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9B8D-985A-492E-AE5E-1E5B4499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1E25-011E-4755-8D16-BBD514A29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20CC-B349-4A3C-B4A2-200F6245E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A20E1-04EB-40A4-9851-475AB908F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52C69-402D-40A8-9599-7DD2235B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3DC21-DB06-4772-AFD5-7A609EB6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08EEB-71EF-4CD4-B363-0E7023CD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EA2C9-F58A-47EA-A972-B367E353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6DE6-CFB0-4BCE-838B-EF40DCB3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69800" y="301680"/>
            <a:ext cx="7311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02089-2995-427B-B206-B6FCFD17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AD87C-6235-45DC-B4A2-CD44B610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AC226-2737-4CA7-A10D-7FFCB4BA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036F8-16F4-4D13-9D34-F5A5626C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E37CC-208F-403D-BB61-6CF23B33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4E05F-1B27-4C01-A068-19B0B7C90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5055B-F334-4C4F-8BF0-950CFCBE4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CCD8-E509-4D65-843C-1BBB1B1E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02BD-FDEB-4185-8278-02085A2B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69800" y="301680"/>
            <a:ext cx="7311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70B0-70E7-4B59-867E-D36FB90C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CB86-2E41-4B4A-A83B-AD89F2E3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4B95-297F-4E26-8D47-3AD0E4FB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5930-6683-4E0D-B131-5B61B5BB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12600" y="5784840"/>
            <a:ext cx="3413160" cy="1090800"/>
            <a:chOff x="-12600" y="5784840"/>
            <a:chExt cx="3413160" cy="109080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316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698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5/07/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49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B9C1BB-627A-4931-85B6-DDE91FF37A91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3205080" y="765000"/>
            <a:ext cx="4114800" cy="31244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296" y="-26254"/>
                </a:moveTo>
                <a:arcTo wR="32000" hR="32000" stAng="-3307659" swAng="6615318"/>
                <a:moveTo>
                  <a:pt x="18296" y="26254"/>
                </a:moveTo>
                <a:arcTo wR="32000" hR="32000" stAng="3307659" swAng="61"/>
                <a:lnTo>
                  <a:pt x="18296" y="26255"/>
                </a:lnTo>
                <a:lnTo>
                  <a:pt x="18296" y="-26255"/>
                </a:lnTo>
                <a:lnTo>
                  <a:pt x="18296" y="-26254"/>
                </a:lnTo>
                <a:arcTo wR="32000" hR="32000" stAng="-3307720" swAng="61"/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2413080" y="0"/>
            <a:ext cx="3094200" cy="315432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077" y="-26405"/>
                </a:moveTo>
                <a:arcTo wR="32000" hR="32000" stAng="-3336253" swAng="6672506"/>
                <a:moveTo>
                  <a:pt x="18077" y="26405"/>
                </a:moveTo>
                <a:arcTo wR="32000" hR="32000" stAng="3336253" swAng="61"/>
                <a:lnTo>
                  <a:pt x="18077" y="26406"/>
                </a:lnTo>
                <a:lnTo>
                  <a:pt x="18077" y="-26406"/>
                </a:lnTo>
                <a:lnTo>
                  <a:pt x="18077" y="-26405"/>
                </a:lnTo>
                <a:arcTo wR="32000" hR="32000" stAng="-3336314" swAng="61"/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15/07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D18D44A-0BAA-47A7-A54D-FD6EAE88B0D9}" type="slidenum"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3222720" y="304920"/>
            <a:ext cx="11908080" cy="4722840"/>
            <a:chOff x="-3222720" y="304920"/>
            <a:chExt cx="11908080" cy="4722840"/>
          </a:xfrm>
        </p:grpSpPr>
        <p:sp>
          <p:nvSpPr>
            <p:cNvPr id="93" name=""/>
            <p:cNvSpPr/>
            <p:nvPr/>
          </p:nvSpPr>
          <p:spPr>
            <a:xfrm>
              <a:off x="1447920" y="2514600"/>
              <a:ext cx="7237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-2514600" y="1371600"/>
              <a:ext cx="3656160" cy="365616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-3222720" y="304920"/>
              <a:ext cx="4037040" cy="40370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2880" y="985320"/>
            <a:ext cx="7237440" cy="14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15/07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8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8098695-9B3C-4A84-B2BD-56265C5F30CB}" type="slidenum"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8.xml"/><Relationship Id="rId3" Type="http://schemas.openxmlformats.org/officeDocument/2006/relationships/image" Target="../media/image1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258920" y="1125360"/>
            <a:ext cx="7345440" cy="3420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OŚWIADCZENIE DECENTRALIZAC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FRANC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ystąpienie p.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Jean-Benoît ALBERTINI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E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yrektor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astępcy Pełnomocnika Międzyresortowego do spraw Zagospodarowania Przestrzennego Kraju i Konkurencyjnoś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awniej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DATA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71640" y="5516640"/>
            <a:ext cx="42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Seminarium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 KS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Warszawa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 - 12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grudnia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419640" y="189000"/>
            <a:ext cx="1584000" cy="576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rcRect l="11527" t="21188" r="11121" b="21855"/>
          <a:stretch/>
        </p:blipFill>
        <p:spPr>
          <a:xfrm>
            <a:off x="2209680" y="6477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6629400" y="6477120"/>
          <a:ext cx="838080" cy="30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647712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1568-3E18-421E-A9BB-C7E4D89EF37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008000" cy="3888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11280" y="692280"/>
            <a:ext cx="82296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7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region posiada też swojego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efekta region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tóry jest mianowanym przez rząd przedstawicielem państw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ełni on rolę administracyjn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czą i polityczną w ramach regionu. Ma w tym celu do dyspozycji sekretarza generalnego do spraw regionalnych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(SGAR)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ieruje zdekoncentrowanymi służbami państw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ealizuje politykę rządu w odniesieniu do wielkich projektów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ontroluje legalność i przestrzeganie reguł budżetow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ykonywanych na szczeblu regionu zadań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Opracowuje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rzedstawiając informacje i propozycje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olityki w dziedzinie rozwoju gospodarczo-społecznego ora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agospodarowania przestrzennego kraj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Animuje i koordynuje działania prefektów departament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170000"/>
              </a:lnSpc>
              <a:spcBef>
                <a:spcPts val="249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170000"/>
              </a:lnSpc>
              <a:spcBef>
                <a:spcPts val="249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BCF7-AC64-4439-9905-F3F6144D7E6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885080" y="115920"/>
            <a:ext cx="1008000" cy="388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84360" y="476280"/>
            <a:ext cx="82296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Francja metropolitalna dzieli się n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26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egionów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: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22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na terenie metropoli i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4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egiony zamorskie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 skład regionu wchodzi kilka departamentów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region zarządzany jest prze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ę regionalną,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ybieraną na okres sześciu lat w wyborach bezpośrednich i powszechn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ełnią one rolę koordynacyjno-planistyczn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dzięki pewnej liczbie kompetencji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 tym w dziedzinie zagospodarowania przestrzennego kraj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Otrzymują część podatków krajowych i dysponują budżetem, który obdzielają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óżne dziedziny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z tych regionów zamorskich takich jak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wadelup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ujana Francusk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Martynika i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éunion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jest jednocześnie zamorskim departamentem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Struktura ta mogłaby zniknąć w przypadku fuzji zgromadzeń regionalnych i departamentaln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69D1-636A-44A2-B244-2FF496E9280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152360" cy="389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-108000" y="765000"/>
            <a:ext cx="8242200" cy="4589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156360" y="1576440"/>
            <a:ext cx="27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77080" y="184464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80000" y="16714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kręgi państwowe jak i samorządy terytorial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496A-3A9E-421F-AC49-5EEF6F04074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58920" y="549360"/>
            <a:ext cx="8785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7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departament posiad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efekta departament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ola jego polega n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 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czuwaniu nad utrzymaniem porządku publicznego i bezpieczeństwa osób i dóbr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apewnieniu możliwości sprawowania praw i swobód obywatelski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apewnianiu zdrowej sytuacji w dziedzinie ochrony środowiska oraz poszanowania dziedzictwa kulturalnego departament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ontroli legalności działań samorządów lokaln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drażaniu i koordynacji polityk krajowych lub wspólnotowych na szczeblu lokalnym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efekt przewodniczy kolegium naczelników wydziałów, w skład którego wchodzą prefekt, podprefekci i naczelnicy wydziałów poszczególnych instancji administracyj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ojekty budżetów zdekoncentrowanych służb administracyjnych przedkładane są prefektow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15236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79F9-1834-4EFB-B121-A54117D0591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71640" y="1484280"/>
            <a:ext cx="784836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Francja metropolitalna składa się z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96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epartament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plus 4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epartamenty zamorski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epartament zarządzany jest przez radę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eneralną wybieraną na okres sześciu lat w bezpośrednich wyborach powszech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ompetencje departament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skoncentrowane na poziomie bardziej lokalny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onkurują częstokroć z kompetencjami region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: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ziałania socjaln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rogownictwo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edukacj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ultura i dziedzictwo narodow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ozwój lokaln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transport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lnictwo</a:t>
            </a:r>
            <a:r>
              <a:rPr b="0" lang="fr-FR" sz="2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524720" y="260280"/>
            <a:ext cx="126684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6202-7D59-486D-88F9-BDF2A278FAD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524720" y="333360"/>
            <a:ext cx="1150920" cy="3888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50720" y="901800"/>
            <a:ext cx="8242560" cy="459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2C45-AEEE-4CCF-B757-701050E0D1A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4360" y="476280"/>
            <a:ext cx="822960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Terytorium Francji składa się 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36 783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 których każda odpowiada na ogół terytorialnie obszarowi miasta lub wioski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a zarządzana jest prze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ę miejsk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tórej członkowie wybierani są na sześć lat w bezpośrednich powszechnych wybora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a miejsca wybiera ze swego skład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M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era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- będącego przedstawicielem państwa, który obarczony jest zadaniem przestrzegania decyzji rady -  jego zastępców, którym można delegować pewne zadani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Ludność gminy określa liczbę radnych miejskich, maksimum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9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a dysponuje budżetem składającym się zasadniczo z transferów ze strony państwa oraz lokalnych podatków bezpośredni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a zarządza sprawami gminy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odejmuje decyzje dotyczące zarządzania gmin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 wyjątkiem sytuacji, kiedy mocą jakiegoś tekstu obowiązek ten obarcza Mera lub też władzę administracyjną innego rodzaj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a przyjmuje wreszcie lokalny plan urbanistyczny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26684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3BE4-7D5A-45F7-85FB-012839C7A62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242200" cy="5132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29200" y="4714920"/>
            <a:ext cx="2971800" cy="18572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7524720" y="189000"/>
            <a:ext cx="1152720" cy="388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692360" y="20808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spółpraca międzygmin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FCB1-48EB-41CF-B6A6-D4F426F9DD5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7016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-71280" y="71280"/>
            <a:ext cx="109728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BB53-86C9-4E34-9BAF-711FA45D6BE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00000" y="1197000"/>
            <a:ext cx="8064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Celem jest tutaj usprawnienie współpracy pomiędzy gminami, które mają wspólne interesy. Istnieje kilka rodzajów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zakładów publicznych współpracy międzygminnej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(EPCI)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oraz kilka poziomów współprac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 styczni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2008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rok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91,7%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 we Francji metropolitalnej było zrzeszonych w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2 583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strukturach międzygmin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15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Na obszarze terytoriów zamorski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15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ędzygminnych struktur zrzesz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76,3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%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 i regionów zamorskich. Istniej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6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aglomeracji 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9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gmin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67640" y="333360"/>
            <a:ext cx="108108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3259-61A0-4A69-9A0B-54C5120DF72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547640" y="2060640"/>
            <a:ext cx="61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DECENTRALIZACJA</a:t>
            </a:r>
            <a:r>
              <a:rPr b="1" lang="fr-FR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WE FRANC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4292640"/>
            <a:ext cx="64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Temat podlegający ciągłym zmianom od 25 l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C9DE-65F2-4381-B80B-0DDDCD4EE8C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11280" y="549360"/>
            <a:ext cx="835164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619200" indent="-22860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14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miejski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najwyższy stopień współpracy międzygminn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otyczą one jednostek obejmujących pona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500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 z przynajmniej jednym miastem liczący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50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 i posiadają szeroki zakres kompetencj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(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ozwój gospodarcz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zarządzanie transporte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urbanistyk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ka wodn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ka odpadam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it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)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169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aglomeracj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Jednostki te liczą co najmni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50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 i są zorganizowane wokół ośrodka liczącego przynajmni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15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osiadają więc one mniej kompetencji o charakterze obowiązkowy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2400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gmin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bez minimalnego progu liczby mieszkańc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Ich kompetencje obowiązkowe mają jeszcze węższy charakter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ystępują również innego rodzaju struktury międzygminne, jak na przykła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355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rain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 tym przypadku chodzi o obszary, które cechuje spójność geograficzn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cz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ulturalna lub społeczna.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adni i podmioty gospodarcze jednoczą tu swe wysiłki w celu realizacji lokalnych projekt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6800">
              <a:lnSpc>
                <a:spcPct val="100000"/>
              </a:lnSpc>
              <a:tabLst>
                <a:tab algn="l" pos="0"/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26684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91DE-A035-4AA6-910E-A5A0EE2116A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041920" y="403200"/>
            <a:ext cx="57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ozwój zintegrowanych związków międzygminny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187280" y="1197000"/>
          <a:ext cx="7345080" cy="5316120"/>
        </p:xfrm>
        <a:graphic>
          <a:graphicData uri="http://schemas.openxmlformats.org/drawingml/2006/table">
            <a:tbl>
              <a:tblPr/>
              <a:tblGrid>
                <a:gridCol w="1945080"/>
                <a:gridCol w="1282680"/>
                <a:gridCol w="1338840"/>
                <a:gridCol w="1175040"/>
                <a:gridCol w="16034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99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99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8724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rzeszenia posiadające własny ustrój podatkow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6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57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 36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 52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632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zrzeszonych 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tym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DOM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. zamorskich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07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 760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9 95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2 31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9092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ludności w milionach 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,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1,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2,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560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zrzeszeń działających na zasadzie </a:t>
                      </a: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PU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jedn. stawka od dział. zaw.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74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 1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656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zrzeszonych 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6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 14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4 38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6220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ludności w milionach 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,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,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9,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9,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812000" y="189000"/>
            <a:ext cx="115272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233D-43EC-4E41-9A9F-8CF276D853B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838836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3 – </a:t>
            </a:r>
            <a:r>
              <a:rPr b="1" lang="pl-PL" sz="2400" spc="-1" strike="noStrike">
                <a:solidFill>
                  <a:srgbClr val="009900"/>
                </a:solidFill>
                <a:latin typeface="Arial"/>
              </a:rPr>
              <a:t>Gospodarcze i finansowe znaczenie decentralizacji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3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Budżety samorządow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 208,5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 rok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2007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ołowa budżetu państw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(388,1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ld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€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KB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Inwestycje samorządow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 56,6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 rok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2007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12,5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FBCF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kraju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73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FBCF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administracji publiczn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Urzędnicy i pracownicy samorządow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 1,8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ów osób na dzień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31/12/06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całości pracowników publicz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(5,1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FPE : 2,5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a osób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FPH : 1, 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 osób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812000" y="189000"/>
            <a:ext cx="1152720" cy="38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929E-CC70-48A5-86D4-3EA0BBCE522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971280" y="1052640"/>
            <a:ext cx="7993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3160" indent="-83160">
              <a:lnSpc>
                <a:spcPct val="80000"/>
              </a:lnSpc>
              <a:spcBef>
                <a:spcPts val="49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Rozchody samorządów lokalnych w roku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Verdana"/>
              </a:rPr>
              <a:t> 2007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 208,5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67% DRF (140,7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)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27% DRI (56,6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44,5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ydatków osobowych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(32% DR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53,3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z tytułu transferów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(38% DR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Regiony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 24,4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(11,7%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ałośc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8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epartamenty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 61,7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(30%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ałośc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ektor gminny i międzygminny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: 122,3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(58,6%) (89,8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gmin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32,5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tr. międzygminne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885080" y="189000"/>
            <a:ext cx="1049400" cy="38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27B1-C822-48D5-AB9B-C0D14220E0C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16000" y="1125360"/>
            <a:ext cx="7343640" cy="32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Przychody samorządów lokalnych w roku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Verdana"/>
              </a:rPr>
              <a:t> 2007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: 207,8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mld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81% RRF (169,7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)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19% RRI (20,5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 czego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19,6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nowych pożyczek, al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13,1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wrotów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94,1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odatków i opłat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(58% RRF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49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transferów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(32% RRF)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 czego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41,7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subwencji państwowy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6CB2-0567-418E-8AA5-274BFCEF8B1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41050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4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Lokalny system podatkowy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824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Bezpośrednie podatki lokalne składają się głównie z 4 rodzajów opłat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atek gruntowy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: 0,8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1,3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TP : 29,1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44,2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atek od nieruchomości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: 20,4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31,2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atek mieszkalny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: 15,2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23,3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NB :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Najważniejszym podatnikiem na szczeblu lokalnym jest państw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=&gt;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powodu ulg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mniejszenie wymiaru należnego podatku     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  nie mające wpływu na podstawę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=&gt;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powodu rekompensat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zejmowanie strat bazowych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 roku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2008 : DCTP 11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mld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€ soit 37,5%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zychodów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; 4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mld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€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tytułu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TH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czyli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27%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zychodów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596360" y="333360"/>
            <a:ext cx="126648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B366-A6C9-4E51-9868-271C5A93AE5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90741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5 –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Stosunki finansowe pomiędzy państwem i samorządami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93680" y="1699920"/>
            <a:ext cx="80503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Od roku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1996 :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przewidywalność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=&gt;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Pakt stabilności finansowej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deksacja inflacji w skali trzyletniej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1999-2007 :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Umowa wzrostu i solidarnośc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deksowana na inflacj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N +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rosnąca część PKB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N-1 (1999 : 20%, 2000 : 25%; 2001-2007: 33%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F 2008 :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ustanowieni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Umowy stabilnośc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deksowanej na inflacj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(1,6%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FI 2009 :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ielkość transferów państwowych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(55,1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 mld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 roku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2008)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zwiększa się w sposób normowany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: +2% (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flacji w okresi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2009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201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596360" y="18900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CE84-545A-4B2C-804E-1C55A248106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55640" y="549360"/>
            <a:ext cx="53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6 –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Podział kompetenc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7280" y="1341360"/>
            <a:ext cx="795672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miana teoretycznych odniesień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lauzula kompetencji ogólnej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bloki kompetencji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ystem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jednostek przewodnich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DF4D-2837-476D-8F62-51AAD77E0F7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17524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885080" y="115920"/>
            <a:ext cx="1081080" cy="360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116000" y="692280"/>
            <a:ext cx="46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ielkie dziedziny kompetencji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11280" y="1413000"/>
          <a:ext cx="8283240" cy="3969720"/>
        </p:xfrm>
        <a:graphic>
          <a:graphicData uri="http://schemas.openxmlformats.org/drawingml/2006/table">
            <a:tbl>
              <a:tblPr/>
              <a:tblGrid>
                <a:gridCol w="1296720"/>
                <a:gridCol w="1224360"/>
                <a:gridCol w="2948760"/>
                <a:gridCol w="2813400"/>
              </a:tblGrid>
              <a:tr h="561600">
                <a:tc gridSpan="2"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om samorządow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przed ustawą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mocą ustawy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8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a i związek gm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banistyka i transp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lokalnych planów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rbanis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cznych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schematów spójności terytorial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da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ezwoleń na budowę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ład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ksploatacja portów jachtowy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ich wniosek, złożony do dnia 1 stycznia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 i zarządzanie jakimkolwiek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em nieautonomiczny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legającym państwu i usytuowanym na jego terytoriu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ład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ksploatacja przekazywanych im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ów handlowych i rybac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eżeli wyrażą takie życzenie do dnia 1 stycz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 i zarządzani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niskami cywilnymi oraz ich 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uczani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i wyposażenie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zkół publicz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dział w definiowaniu karty szkol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tworze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tułem pięcioletniego eksperymen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kalnych publicznych placówek szkolnictwa podstaw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gospodarcz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y udział w finansow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zpośredniej pomocy dla przedsiębiorst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ramach umowy z regione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znawanie przedsiębiorstwom pomocy pośredni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wdrażania własnych systemów pomocy po uzyskaniu akceptacji region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ustanawiania jednostek informacji turystycz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CCB0-6ECE-4CBA-8544-D650367B762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539640" y="1413000"/>
          <a:ext cx="8426160" cy="3514320"/>
        </p:xfrm>
        <a:graphic>
          <a:graphicData uri="http://schemas.openxmlformats.org/drawingml/2006/table">
            <a:tbl>
              <a:tblPr/>
              <a:tblGrid>
                <a:gridCol w="1295640"/>
                <a:gridCol w="1152720"/>
                <a:gridCol w="3115080"/>
                <a:gridCol w="2862720"/>
              </a:tblGrid>
              <a:tr h="1326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a i związek gm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lnictw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owanie lokalnego programu w sferz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lnictw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delegowania na rzecz mera lub prezes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PCI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a kontyngentem prefektury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uczestniczenia w budow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u i wyposaż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mów studenc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walczanie szkodliwych warunków zamieszkiwania - eksperymental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w dziedzinie zdrowia i sferze socjalnej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komplementarne w stosunku do działań departamen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gminnymi ośrodkami działań socj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CCAS)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pożyczalnie książek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jskie konserwatoria i muze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ja i finansowanie początkowego nauczania artystycz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gą stawać się właścicielami sklasyfikowanych lub zewidencjonowanych zabytków historycznych należących do państwa lub też do Krajowego Centrum Zabytków Historycz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4EB2-A830-4754-B94A-C27036CC914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4360" y="1341360"/>
            <a:ext cx="8459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900" spc="-1" strike="noStrike">
                <a:solidFill>
                  <a:srgbClr val="009900"/>
                </a:solidFill>
                <a:latin typeface="Arial"/>
              </a:rPr>
              <a:t>1.</a:t>
            </a: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900" spc="-1" strike="noStrike" u="sng">
                <a:solidFill>
                  <a:srgbClr val="009900"/>
                </a:solidFill>
                <a:uFillTx/>
                <a:latin typeface="Arial"/>
              </a:rPr>
              <a:t>Społeczno-polityczny oraz instytucjonalny kontekst decentralizacji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42920" y="1989000"/>
            <a:ext cx="49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2060640"/>
            <a:ext cx="799308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Francuskie instytucj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Unitarne tradycj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ładza państwowa i konsensus społecz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rganizacja zdecentralizowan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ewolucja ujęta w odpowiednie ra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2781360"/>
            <a:ext cx="79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92D3-56EF-4B7A-B385-C9421854B6EE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395280" y="1341360"/>
          <a:ext cx="8570520" cy="3541320"/>
        </p:xfrm>
        <a:graphic>
          <a:graphicData uri="http://schemas.openxmlformats.org/drawingml/2006/table">
            <a:tbl>
              <a:tblPr/>
              <a:tblGrid>
                <a:gridCol w="1297080"/>
                <a:gridCol w="1224360"/>
                <a:gridCol w="3389400"/>
                <a:gridCol w="2659680"/>
              </a:tblGrid>
              <a:tr h="446400">
                <a:tc gridSpan="2"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om samorządow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przed ustawą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mocą ustawy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art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socjalne, solidarność, mieszkalnictw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zastrzeżeniem sytuacji wyjątkowych odpowiada całościowo za świadczenia z tytułu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y społecz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: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 społeczna na rzecz dziec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 dla osób niepełnospraw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racja społeczno-zawo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RMI-RMA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 dnia 1 stycznia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)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 na rzecz osób starsz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hrona zdrowia rodziny i dzieck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uje i wdraża politykę działań socj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eksperymentalne na teranie niektórych departamentów o poszerzonych kompetencjach w dziedzi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hrony sądowej młodzieży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, infrastruktu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oraz inwestycje w sferz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ogownictwa departamental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ja niemiejskiego drogowego przewozu osób 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portu szkol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a obszarem miast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ładanie i wyposaż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rskich portów handlowych i rybackich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zarządzanie nimi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SzPct val="70000"/>
                        <a:buFont typeface="Times New Roman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programu wspiera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struktury obszarów wiejs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zęścią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koło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 000 km)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óg krajow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lipc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 :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nisk cywilnych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zarządzanie ni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stycz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i 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em nieautonomiczny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legającym państwu i usytuowanym na terytorium kraj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C014-479C-4D2B-BBB6-A2F606B7206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979640" y="1197000"/>
          <a:ext cx="6914880" cy="3673080"/>
        </p:xfrm>
        <a:graphic>
          <a:graphicData uri="http://schemas.openxmlformats.org/drawingml/2006/table">
            <a:tbl>
              <a:tblPr/>
              <a:tblGrid>
                <a:gridCol w="1128600"/>
                <a:gridCol w="3342960"/>
                <a:gridCol w="2443320"/>
              </a:tblGrid>
              <a:tr h="194544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ukacj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edzictwo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posaże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imnazjów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ich finanso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 centralne wypożyczalnie książek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chiwa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muzeami departamentalnymi oraz ich 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jątku nieruchomego gimnazj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 nabór i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 kadrą techniczną, robotnikami i pracownikami usługowymi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TOS)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imnazj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764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gospodarcz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y udział w finansow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zpośredniej pomocy na rzecz przedsiębiorst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ramach umowy z regione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dzielanie przedsiębiorstwom pomocy pośredni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wdrażania własnych systemów pomocowych po uzyskaniu akceptacji ze strony region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39640" y="1197000"/>
          <a:ext cx="1441080" cy="3673080"/>
        </p:xfrm>
        <a:graphic>
          <a:graphicData uri="http://schemas.openxmlformats.org/drawingml/2006/table">
            <a:tbl>
              <a:tblPr/>
              <a:tblGrid>
                <a:gridCol w="1441080"/>
              </a:tblGrid>
              <a:tr h="34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parta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547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420C-01C1-4F99-A18B-FD58026E4B33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755640" y="907920"/>
          <a:ext cx="7994160" cy="4627440"/>
        </p:xfrm>
        <a:graphic>
          <a:graphicData uri="http://schemas.openxmlformats.org/drawingml/2006/table">
            <a:tbl>
              <a:tblPr/>
              <a:tblGrid>
                <a:gridCol w="1008000"/>
                <a:gridCol w="1729080"/>
                <a:gridCol w="2659680"/>
                <a:gridCol w="2597400"/>
              </a:tblGrid>
              <a:tr h="628920">
                <a:tc gridSpan="2"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om samorządow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przed ustawą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mocą ustawy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1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zwój gospodarczy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edzina, gdzie region odgrywa rolę koordynator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kreśla system pomocy bezpośrednich i je przyznaj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ne premie za zatrudnie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worzenie przedsiębiorstw jak też pożyczki i zaliczki na zasadach preferencyjnych stóp procentow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drażanie i przyznawanie pomocy o charakterze pośredni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warancje dla przedsiębiorstw zaciągających pożyczk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wolnienie z podatku od działalności zawodow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a regionalna określ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stem pomocy gospodarczej dla przedsiębiorstw i decyduje o jej przyznaw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nego schematu rozwoju gospodarcz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tułem eksperymentalnym na lat pię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 i planowani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dział w wypracowywaniu krajowej polityki w dziedzinie zagospodarowania przestrzennego i trwałego rozwoj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wieranie umów planu wiążących państwo i region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 rok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7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umowy projektow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regionalnego schematu przewoz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nego schematu w dziedzinie infrastruktury i transpor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wniej: regionalny schemat transpor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lipc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 :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nisk cywilnych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zarządzanie ni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stycz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i 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kimkolwiek portem nieautonomiczny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legającym państwu i usytuowanym na jego terytoriu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1E8A-F2AC-4F16-BB06-EE99C1971679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684360" y="1125360"/>
          <a:ext cx="8210160" cy="2778120"/>
        </p:xfrm>
        <a:graphic>
          <a:graphicData uri="http://schemas.openxmlformats.org/drawingml/2006/table">
            <a:tbl>
              <a:tblPr/>
              <a:tblGrid>
                <a:gridCol w="1079280"/>
                <a:gridCol w="1656360"/>
                <a:gridCol w="2548440"/>
                <a:gridCol w="2926080"/>
              </a:tblGrid>
              <a:tr h="2098080">
                <a:tc rowSpan="2"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ukacj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ształcenie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wodow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posażenie i finanso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e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cówek szkolnych specjalnego przeznaczenia oraz techników mors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regionalnego planu rozwoju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jmowanie programu kształcenie zawodowego oraz ustawicznego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jątku nieruchomego lice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cówek edukacyjnych o charakterze specjalnym oraz techników morskich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dry techniczn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botników i pracowników usługowych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TOS)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eów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zarządzanie ni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owanie i wdrażanie regionalnej polityki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ktycznej nauki zawod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kształcenia zawodowego młodzieży i dorosłych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jmowanie programu praktycznej nauki zawod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tawicznego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az już w ramach regionalnego planu rozwoju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ja i finansowanie muzeów region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nserwacja i dowartościowanie archiwów region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w dziedzinie ogólnej inwentaryzacji dziedzictwa kultural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017B-A149-439F-8919-45B49570DD38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2920" y="1196640"/>
            <a:ext cx="4608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7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Mechanizmy regulacyjne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6920" y="2060280"/>
            <a:ext cx="5688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rola przedstawiciela państw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trola legalnośc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trola budżetow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sparcie kadrowe w sferze lokalnego systemu podatkoweg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77F6-0189-40B7-8FDA-08055472688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47640" y="2060640"/>
            <a:ext cx="61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DECENTRALIZACJA</a:t>
            </a:r>
            <a:r>
              <a:rPr b="1" lang="fr-FR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WE FRANC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403280" y="422100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II. 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Wyzwania w toczącej się obecnie dyskus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2B03-F258-4258-9D37-D79454A750A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1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Proces</a:t>
            </a:r>
            <a:r>
              <a:rPr b="1" lang="fr-FR" sz="2000" spc="-1" strike="noStrike" u="sng">
                <a:solidFill>
                  <a:srgbClr val="009900"/>
                </a:solidFill>
                <a:uFillTx/>
                <a:latin typeface="Arial"/>
              </a:rPr>
              <a:t>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francuskiej </a:t>
            </a:r>
            <a:r>
              <a:rPr b="1" lang="fr-FR" sz="2000" spc="-1" strike="noStrike" u="sng">
                <a:solidFill>
                  <a:srgbClr val="009900"/>
                </a:solidFill>
                <a:uFillTx/>
                <a:latin typeface="Arial"/>
              </a:rPr>
              <a:t>« 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napoleonki</a:t>
            </a:r>
            <a:r>
              <a:rPr b="1" lang="fr-FR" sz="2000" spc="-1" strike="noStrike" u="sng">
                <a:solidFill>
                  <a:srgbClr val="009900"/>
                </a:solidFill>
                <a:uFillTx/>
                <a:latin typeface="Arial"/>
              </a:rPr>
              <a:t> » 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653840" y="1988640"/>
            <a:ext cx="65898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brak jasności, jeśli chodzi o odpowiedzialność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potrzeba zmian lokalnego systemu podatkoweg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reforma karty gminnej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znaczenie opłat obowiązkowych</a:t>
            </a: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51C9-356E-40B3-9D83-AD2A41C0634B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35344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2 –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Ogólny przegląd polityk publicznych</a:t>
            </a:r>
            <a:r>
              <a:rPr b="1" lang="fr-FR" sz="2400" spc="-1" strike="noStrike" u="sng">
                <a:solidFill>
                  <a:srgbClr val="009900"/>
                </a:solidFill>
                <a:uFillTx/>
                <a:latin typeface="Arial"/>
              </a:rPr>
              <a:t> :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kontekst sprzyjający reformie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6920" y="1773360"/>
            <a:ext cx="768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« 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Jeden szczebel mni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niższe podatk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 » ?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568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ielość scenariusz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ołączenie szczebl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nowy podział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à la car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ścisły rozdział kompetencj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iec krzyżowych form finansowani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6477120"/>
            <a:ext cx="670536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1905120" y="6477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"/>
          <p:cNvGraphicFramePr/>
          <p:nvPr/>
        </p:nvGraphicFramePr>
        <p:xfrm>
          <a:off x="6324480" y="6477120"/>
          <a:ext cx="83844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6477120"/>
                    <a:ext cx="838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D66F-71FD-4CF7-8048-F8D95FF5F253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42920" y="1413000"/>
            <a:ext cx="748980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Odniesienia konstytucyjne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rt. 1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rancja jest Republiką niepodzielną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laicką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emokratyczną i społeczną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apewnia wszystkim obywatelom równość wobec prawa bez względu na pochodzenie, rasę czy religię. Szanuje wszystkie wyznani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Organizacja kraju ma charakter zdecentralizowany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rt 72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Jednostkami samorządu terytorialnego Republiki są gminy, departamenty, regiony, społeczności posiadające status szczególny oraz społeczności zamorskie podlegające postanowieniom zawartym w artykul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74. […]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szczególne jednostki samorządu terytorialnego powołane są do tego, aby podejmować decyzje w zakresie wszystkich tych kompetencji, które mogą być najlepiej wdrożone na ich szczeblu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[…]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klauzula kompetencji ogólnych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39C6-83EF-49BB-851E-040AA31AEA7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042920" y="0"/>
            <a:ext cx="7921800" cy="67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Art. 72-2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Jednostki samorządu terytorialnego korzystają z zasobów, którymi mogą dysponować na warunkach ustalonych przez prawo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swoboda zarządu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Mogą one otrzymywać całość lub część przychodów podatkowych wszelkiego rodzaju. Ustawowo mogą uzyskać pozwolenie na ustalanie podstawy wymiaru podatków oraz stopy podatkowej w ustawowo określonych granicach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uprawnienia podatkow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Przychody podatkowe oraz pozostałe środki własne jednostek samorządu terytorialnego stanowią, w przypadku każdego rodzaju samorządu, zdecydowaną część całości ich przychodów. Ustawa organiczna ustala warunki wdrażania tej reguły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środki własn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Każdorazowo transferowi kompetencji przez państwo na szczebel samorządowy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towarzyszy przydział środków odpowiadający kwotowo tym, które były przeznaczane na ich sprawowanie. Każdorazowemu utworzeniu lub poszerzeniu kompetencji, pociągającemu za sobą wzrost wydatków samorządowych,  towarzyszą ustawowo określane środki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całościowa rekompensata transferów</a:t>
            </a: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: CCEC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/KDOT</a:t>
            </a: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Ustawa przewiduje system wyrównań mających sprzyjać równości jednostek samorządowych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064360" y="0"/>
            <a:ext cx="1079640" cy="43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E1B7-4503-42FB-A502-F9013032D13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4000" y="1890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Tahoma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"/>
                <a:ea typeface="Tahoma"/>
              </a:rPr>
              <a:t>Samorządow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Tahoma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"/>
                <a:ea typeface="Tahoma"/>
              </a:rPr>
              <a:t>struktury Franc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5640" y="1197000"/>
            <a:ext cx="3097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Wingdings" charset="2"/>
              <a:buChar char="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1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Decentralizac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Samorząd terytorialny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26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regionów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100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departamentów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36 783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gm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Społeczności zamorsk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Wingdings" charset="2"/>
              <a:buChar char="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1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Dekoncentrac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rzedstawiciele państwa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-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refekci regionó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-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refekci departamentó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-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odprefekci i zdekoncentrowane służby państwa zorganizowane w ośrodk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014720" y="189000"/>
            <a:ext cx="4950000" cy="626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F9B2-E2A7-4136-BF45-15F83C89DD10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00000" y="620640"/>
            <a:ext cx="82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2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Sytuacja we Francji a samorządy lokalne w Europ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7524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042920" y="1773360"/>
          <a:ext cx="7778520" cy="2729880"/>
        </p:xfrm>
        <a:graphic>
          <a:graphicData uri="http://schemas.openxmlformats.org/drawingml/2006/table">
            <a:tbl>
              <a:tblPr/>
              <a:tblGrid>
                <a:gridCol w="1511280"/>
                <a:gridCol w="1658160"/>
                <a:gridCol w="1511640"/>
                <a:gridCol w="1513080"/>
                <a:gridCol w="1584360"/>
              </a:tblGrid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ctr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Franc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emc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jednoczon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ólestwo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och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szpani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0,2 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 algn="just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2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,2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 algn="just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7 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9,4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49 000 km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56 900 km</a:t>
                      </a:r>
                      <a:r>
                        <a:rPr b="0" lang="pl-PL" sz="13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44 000 km</a:t>
                      </a:r>
                      <a:r>
                        <a:rPr b="0" lang="pl-PL" sz="13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01 200 km</a:t>
                      </a:r>
                      <a:r>
                        <a:rPr b="0" lang="pl-PL" sz="13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04 800 km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6 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 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ndów/państw federalnyc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6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rabst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spólnot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onomicznyc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00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artament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26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wiat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81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wiat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5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wincji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0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wincji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6 679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 068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 074 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 082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F6A3-3965-4A1C-9421-A91DA0A1BE0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16000" y="22766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2. </a:t>
            </a:r>
            <a:r>
              <a:rPr b="1" lang="fr-FR" sz="2400" spc="-1" strike="noStrike" u="sng">
                <a:solidFill>
                  <a:srgbClr val="009900"/>
                </a:solidFill>
                <a:uFillTx/>
                <a:latin typeface="Arial"/>
              </a:rPr>
              <a:t>« 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Tandem</a:t>
            </a:r>
            <a:r>
              <a:rPr b="1" lang="fr-FR" sz="2400" spc="-1" strike="noStrike" u="sng">
                <a:solidFill>
                  <a:srgbClr val="009900"/>
                </a:solidFill>
                <a:uFillTx/>
                <a:latin typeface="Arial"/>
              </a:rPr>
              <a:t> »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Decentralizacja/Dekoncentrac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80360" y="476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965C-21D4-4A91-B39A-78CB823E353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152360" cy="389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-108000" y="836640"/>
            <a:ext cx="8242200" cy="45846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300720" y="1916280"/>
            <a:ext cx="251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08720" y="1628640"/>
            <a:ext cx="352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Okręgi państwowe jak i samorządy terytorial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0704-2BFA-468D-891B-73527119D0F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17:04:38Z</dcterms:created>
  <dc:creator>Wojciech Gilewski</dc:creator>
  <dc:description/>
  <dc:language>en-US</dc:language>
  <cp:lastModifiedBy>KAS</cp:lastModifiedBy>
  <dcterms:modified xsi:type="dcterms:W3CDTF">2009-02-05T11:39:09Z</dcterms:modified>
  <cp:revision>398</cp:revision>
  <dc:subject>Présentation de la DIACT</dc:subject>
  <dc:title>DIACT, la délégation interministérielle à l’aménagement et à la compétitivité des territoires</dc:title>
</cp:coreProperties>
</file>